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F3AE-5CF4-4AF4-B582-4F09A80144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EE8E-FF98-4824-9C99-16813D83B9D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C1B7-F123-400C-A220-2ED49BC4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4A6D-BA01-4F76-929D-C020220B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5E48-8C8C-4AED-90E1-FC6EF7FC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5073-2087-4CB0-97E7-96C95D9B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71CC-5D99-4A03-9572-869972CE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594B-165C-4B40-B8C2-FCD1E2E5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4F9F-9F48-45C2-91AB-C987FFEF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46C6-2A2D-403F-A3FE-D6E2F4E2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C5B7-FDE3-4592-B004-0E5B3B8B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8AF9-9905-483B-AF09-1B937E96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E0AF-3345-4B1A-A6C5-82F8DD45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27C-E132-49FD-950B-B0F1EDDC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5AE1-F0A1-4453-9889-22A8BD3A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8050-823A-4706-88EE-E846968F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92B5-1844-4051-BA54-C23FBEE8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E980-782E-46DD-A469-BFF6EB89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678F-3954-4785-AD29-FB5FB3BD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890-7A4C-40CF-AA5C-C7912A38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70F5-4E3C-4889-9B79-B83B536B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AA00-3D54-4366-A44C-3ED68605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5417-EC91-449C-9EA8-68624C16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63AF-F467-4B71-AF27-F81A9E66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CC0-9C28-4A21-B9BC-177D60FD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52E0-421F-4FB6-93D9-D0973C9D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A8EB-CAF1-4F8C-ACC3-06C5FB7E26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4F24-3C1C-46A7-A06D-026B96A1BB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ntibiothérapie des infections neuro-méning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nférence de consensus </a:t>
            </a:r>
            <a:br>
              <a:rPr sz="28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19 novembr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ctualisation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072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omic Sans MS"/>
              </a:rPr>
              <a:t>S. pneumoniae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de sensibilité diminuée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à la péni G en France (CNR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age 3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3348000" cy="2760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0" y="3632040"/>
            <a:ext cx="6769080" cy="322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nées CNR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 1" descr=""/>
          <p:cNvPicPr/>
          <p:nvPr/>
        </p:nvPicPr>
        <p:blipFill>
          <a:blip r:embed="rId1"/>
          <a:stretch/>
        </p:blipFill>
        <p:spPr>
          <a:xfrm>
            <a:off x="971640" y="1679400"/>
            <a:ext cx="723564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1" descr=""/>
          <p:cNvPicPr/>
          <p:nvPr/>
        </p:nvPicPr>
        <p:blipFill>
          <a:blip r:embed="rId1"/>
          <a:stretch/>
        </p:blipFill>
        <p:spPr>
          <a:xfrm>
            <a:off x="395280" y="1685880"/>
            <a:ext cx="82440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Pneumocoqu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méningite/bactériém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31672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Arial"/>
              </a:rPr>
              <a:t>Sensibilité aux beta lactam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08000" y="1959120"/>
            <a:ext cx="87710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Évolution des résistances entre 2001 et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Image 1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0000"/>
                </a:solidFill>
                <a:uFillTx/>
                <a:latin typeface="Comic Sans MS"/>
              </a:rPr>
              <a:t>facteurs de risque de résistance du pneumoco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hospitalisation réc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antibiothérapie (</a:t>
            </a:r>
            <a:r>
              <a:rPr b="0" lang="fr-FR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-lactamine) dans les 6 mois qui précèd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immuno-dépress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Nourriss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res antibiotiques utilisables en cas de rési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ifamp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mipénè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luoroquinolones anti pneumococciques (lévofloxacine, moxifloxac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inézolid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ssociation céfotaxime/ceftriaxone + vanco syner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Méning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ésistance à la pénicilline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in des années 80 en Espagne et au Royaume Un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1997 e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NR en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30 %  pénicilline G intermédi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25 % amoxicilline intermédi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s de diminution de la sensibilité pour le céfotax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ensibilité du ménig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3640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Données géné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gravité de l'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isque v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inimiser le risque d'erreur dans le choix du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rticularité du compartiment neuro-méning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assage de la barrière hémato-encépha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écessité d'une bactérici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centration supérieure à la C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ximum d'activité sur modèle expérimental avec des concentrations &gt; à 10 à 30 x C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omic Sans MS"/>
              </a:rPr>
              <a:t>Lis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oujours sensible à l'amoxicil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ynergie avec l'association avec la gentam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en cas d'échec : efficacité in vivo du cotrimoxaz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éléments de pharmacologie et de pharmacodynam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</a:t>
            </a:r>
            <a:r>
              <a:rPr b="0" lang="fr-FR" sz="4800" spc="-1" strike="noStrike" u="sng">
                <a:solidFill>
                  <a:srgbClr val="000000"/>
                </a:solidFill>
                <a:uFillTx/>
                <a:latin typeface="Comic Sans MS"/>
              </a:rPr>
              <a:t>-lactami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pénétration méningée des </a:t>
            </a:r>
            <a:r>
              <a:rPr b="0" lang="fr-FR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-lactamines faibles en l'absence d'inflammation des ménin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demi-vie d'élimination supérieure à celles du compartiment plasmat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modèle anim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concentration &gt; 2 à 3 x CMI = insuffisant 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rapport concentration sérique / LCR = 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augmentation des posologies en cas de sensibilité diminué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céfotaxime : 300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céftriaxone : 100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Glycopept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mauvaise pénétration méningée de la vancomy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difficulté d'atteindre des ratio concentration /CMB de 5 à 10, même à 40 à 60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avantage de la perfusion contin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meilleure pénétration dans le LCR, dose de charge à 15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en cas d'administration de corticoïd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pénétration de la vanco suffisante en cas d</a:t>
            </a:r>
            <a:r>
              <a:rPr b="0" lang="ja-JP" sz="21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administration en perf continue (CID, 200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À utiliser en cas de pneumocoque résistant aux C3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fluoroquinolones et linézo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ur place reste à éval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onne concentration dans le L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usion méningée : 70 % pour le linézo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étude sur modèle animaux encourage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s d'étude clinique chez l'homm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+/- bactériost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selon orientation micro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24000" y="2543040"/>
            <a:ext cx="845964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selon orientation micro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6770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sans orientation micro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41860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Durée du trai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neumocoque 10 jours si évolution favorable dès 48h et CMI C3G ≤ 0,5 mg/l, sinon 14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éningocoque 4 jours si évolution favorable dès 48h, sinon 7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istéria 21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Streptocoque agalactiae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4-21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21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Haemophilus influenzae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7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éningite bactérienne non documentée d’évolution favorable : poursuite de l’antibiothérapie jusqu’au 14</a:t>
            </a:r>
            <a:r>
              <a:rPr b="0" lang="fr-FR" sz="2200" spc="-1" strike="noStrike" baseline="30000">
                <a:solidFill>
                  <a:srgbClr val="000000"/>
                </a:solidFill>
                <a:latin typeface="Arial"/>
              </a:rPr>
              <a:t>ème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j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Traitements adjuvants : la corticothérap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minue l'inflammation méningée et l'œdème céré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éxaméthasone réduit les séquelles auditives dans les méningites à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Haemophilus influenza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hez l'enf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ême résultats dans la même population pour les méningites à pneumocoque si corticoïdes administrés avant ou au moment de la première administration d'antibio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endance à avoir plus de guérison sans séquelles chez l'adulte traité par la déxamétha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ffet sur la mortalité :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sologie 0.4 à 0.6 mg/kg/jour répartis en 4 injections pendant 2 à 4 j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convén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minue les défenses naturelles de l'organism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minue la diffusion des antibiotiques dans le LCR (surtout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lactamines et vancomycine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éningoc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neumoc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Haemophilus influenza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nette diminution depuis la vaccination chez le nourris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térobacté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Pseudom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taphyloco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Lis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Strepto agalactia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199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2136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bcès cérébr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icrob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reptocoques non groupables (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S. anginosus, S. intermedius, S. constellatu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naérobies (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Peptostreptococcu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Bacteroide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acilles à Gram néga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aphyloco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ffusion des antibiotiques dans le parenchyme céréb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hiamphéni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étronidaz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luoroquino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+/- fosfomy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incipe du trai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édico-chirur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aptation à l'antibiogramme : céphalosporines de troisième génération; thiamphénicol ?, métronidazole, fosfomycine, rifamp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Pharmac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acteurs influençant la pénétration des antibiotiques dans le LC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acteurs augmentation perméabil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lécules de petite ta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aible degré de liaison aux proté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aible degré d'ionisation à pH physiolog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ipophi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acteurs diminuant la péné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cidose du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centration élevée en protéines dans le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empérature élevée du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Modalités prat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lai d'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plus rapide possible = urgence antibio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ximum : 3 heures après l’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cision thérapeutique prise s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léments cli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spect du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cytolog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daptation selon résultats bactériologiques à 48 he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ntibiotique de première in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à définir selon les orientations cli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urp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685800" y="2362320"/>
          <a:ext cx="350532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35053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" name="Group 4"/>
          <p:cNvGrpSpPr/>
          <p:nvPr/>
        </p:nvGrpSpPr>
        <p:grpSpPr>
          <a:xfrm>
            <a:off x="5105520" y="1981080"/>
            <a:ext cx="2949480" cy="3856680"/>
            <a:chOff x="5105520" y="1981080"/>
            <a:chExt cx="2949480" cy="3856680"/>
          </a:xfrm>
        </p:grpSpPr>
        <p:graphicFrame>
          <p:nvGraphicFramePr>
            <p:cNvPr id="106" name="Object 5"/>
            <p:cNvGraphicFramePr/>
            <p:nvPr/>
          </p:nvGraphicFramePr>
          <p:xfrm>
            <a:off x="5105520" y="1981080"/>
            <a:ext cx="2949480" cy="3352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05520" y="1981080"/>
                      <a:ext cx="2949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Text Box 6"/>
            <p:cNvSpPr/>
            <p:nvPr/>
          </p:nvSpPr>
          <p:spPr>
            <a:xfrm>
              <a:off x="5138640" y="5012280"/>
              <a:ext cx="2906280" cy="82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808080"/>
                  </a:solidFill>
                  <a:latin typeface="Times New Roman"/>
                </a:rPr>
                <a:t>PURPURA EXTENS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57200" y="2198520"/>
            <a:ext cx="82296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Orientation thérapeutique selon le micro-organis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Pneumoc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résistance aux </a:t>
            </a:r>
            <a:r>
              <a:rPr b="0" lang="fr-FR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-lactami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résistance à la pénicilline G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CMI &gt; ou = 0.1 mg/l)</a:t>
            </a: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 : 20 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pneumocoque de sensibilité diminuée à l'amoxicilline voire aux C3G injectables : ra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18 % et 12.5 % I pour l'amoxi et le céfotax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pas de résistance pour ces deux derniers antibiotiq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vanco toujours effic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22:02:17Z</dcterms:created>
  <dc:creator>yves hansmann</dc:creator>
  <dc:description/>
  <dc:language>en-US</dc:language>
  <cp:lastModifiedBy>invit</cp:lastModifiedBy>
  <dcterms:modified xsi:type="dcterms:W3CDTF">2019-03-06T14:49:28Z</dcterms:modified>
  <cp:revision>15</cp:revision>
  <dc:subject/>
  <dc:title>Antibiothérapie des infections neuro-méningées</dc:title>
</cp:coreProperties>
</file>